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D5FA-DD11-4DC9-BD71-E279A4EF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BFF-D251-427A-B4D2-8E5D794B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496-9CBD-449C-864F-4FE1A208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B90-CFBA-45F1-9E27-A1EA05ED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587D-6A82-4C47-B7C7-CE3917C4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EEC-4A62-40E9-924E-31D3AE17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BD5-BC5C-43D5-AA9B-DF53EB07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ABB-65BC-4399-9F16-49CAAE79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03E-3C60-4073-86CA-943D6B64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93D-6AF3-4BEF-B1DD-B60DEF4F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D6E-86BD-4725-B132-A31B37B2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7A4-D835-4386-AB02-8C51BADF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A565-3D12-45BE-85FA-756486500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9144000" cy="110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 u="sng">
                <a:solidFill>
                  <a:srgbClr val="000000"/>
                </a:solidFill>
                <a:uFillTx/>
                <a:latin typeface="Arial"/>
              </a:rPr>
              <a:t>応募建築物名を記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340000" y="56196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回ＢＥＬＣＡ賞 ロングライフ部門応募建築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ベストリフォーム部門応募建築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96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写真等静止画データ提出様式（パワーポイン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22360" y="2733840"/>
          <a:ext cx="8099280" cy="3871800"/>
        </p:xfrm>
        <a:graphic>
          <a:graphicData uri="http://schemas.openxmlformats.org/drawingml/2006/table">
            <a:tbl>
              <a:tblPr/>
              <a:tblGrid>
                <a:gridCol w="1457280"/>
                <a:gridCol w="2808360"/>
                <a:gridCol w="383364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所在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daede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竣工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daede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西暦）年（（和暦）年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改修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daede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西暦）年（（和暦）年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改修前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改修後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※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ベストリフォーム部門のみ記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応募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daede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※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社名・団体名のみ記入、以下同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建物所有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daede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設計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daede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※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ベストリフォーム部門の場合、改修設計者とな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施工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daede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※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ベストリフォーム部門の場合、改修施工者とな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維持管理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solidFill>
                      <a:srgbClr val="daede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※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ロングライフ部門のみ記入す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5" name="図 3" descr=""/>
          <p:cNvPicPr/>
          <p:nvPr/>
        </p:nvPicPr>
        <p:blipFill>
          <a:blip r:embed="rId1"/>
          <a:stretch/>
        </p:blipFill>
        <p:spPr>
          <a:xfrm>
            <a:off x="1617840" y="225360"/>
            <a:ext cx="722160" cy="7225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様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.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549360"/>
            <a:ext cx="8352000" cy="54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0" y="6146640"/>
            <a:ext cx="91440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説明文：場所、方角、時期、改修前後などのデータと簡単な説明を、１枚につき２０ポイント文字２行以内で説明して下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6720" y="549360"/>
            <a:ext cx="8352000" cy="54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6146640"/>
            <a:ext cx="91440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説明文：場所、方角、時期、改修前後などのデータと簡単な説明を、１枚につき２０ポイント文字２行以内で説明して下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352000" cy="55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提出時の注意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提出資料の作成に関する説明書とあわせてご一読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背景は白、文字は黒で作成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○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スライド１枚につき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写真等静止画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は１カットを基本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しますが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改修前後の比較が可能な場合に限り、１枚のスライドに改修前後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 各１カットまで入れることができます。その場合、必ず前後比較が容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な構成と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写真のみでの説明が困難な場合、図表等を入れて説明することも可能ですが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 その場合の文字等の大きさは読み取れるものと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用す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写真等静止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データはＪＰＥＧ形式として下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○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使用する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写真等静止画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のデータ容量は１カットあたり１ＭＢ以内とします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 ただし、画質を保つため、極端に小さくする必要はあ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○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アニメーション等の演出は一切付け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静止画像のみと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0" y="6146640"/>
            <a:ext cx="91440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説明文：場所、方角、時期、改修前後などのデータと簡単な説明を、１枚につき２０ポイント文字２行以内で説明して下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6720" y="549360"/>
            <a:ext cx="8352000" cy="54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0" y="6146640"/>
            <a:ext cx="91440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説明文：場所、方角、時期、改修前後などのデータと簡単な説明を、１枚につき２０ポイント文字２行以内で説明して下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6720" y="549360"/>
            <a:ext cx="8352000" cy="54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0" y="6146640"/>
            <a:ext cx="91440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説明文：場所、方角、時期、改修前後などのデータと簡単な説明を、１枚につき２０ポイント文字２行以内で説明して下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96720" y="549360"/>
            <a:ext cx="8352000" cy="54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6146640"/>
            <a:ext cx="91440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説明文：場所、方角、時期、改修前後などのデータと簡単な説明を、１枚につき２０ポイント文字２行以内で説明して下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6720" y="549360"/>
            <a:ext cx="8352000" cy="54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6146640"/>
            <a:ext cx="91440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説明文：場所、方角、時期、改修前後などのデータと簡単な説明を、１枚につき２０ポイント文字２行以内で説明して下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6720" y="549360"/>
            <a:ext cx="8352000" cy="54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6146640"/>
            <a:ext cx="91440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説明文：場所、方角、時期、改修前後などのデータと簡単な説明を、１枚につき２０ポイント文字２行以内で説明して下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6720" y="549360"/>
            <a:ext cx="8352000" cy="54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6146640"/>
            <a:ext cx="91440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説明文：場所、方角、時期、改修前後などのデータと簡単な説明を、１枚につき２０ポイント文字２行以内で説明して下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96720" y="549360"/>
            <a:ext cx="8352000" cy="54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6146640"/>
            <a:ext cx="91440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説明文：場所、方角、時期、改修前後などのデータと簡単な説明を、１枚につき２０ポイント文字２行以内で説明して下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09:52:06Z</dcterms:created>
  <dc:creator>arahata</dc:creator>
  <dc:description/>
  <dc:language>en-US</dc:language>
  <cp:lastModifiedBy>事務局08 BELCA</cp:lastModifiedBy>
  <cp:lastPrinted>2017-05-23T05:04:33Z</cp:lastPrinted>
  <dcterms:modified xsi:type="dcterms:W3CDTF">2025-04-09T08:45:42Z</dcterms:modified>
  <cp:revision>59</cp:revision>
  <dc:subject/>
  <dc:title>様式№6_建物の写真等静止画データ（パワーポイント）</dc:title>
</cp:coreProperties>
</file>