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7DA-5FDC-4733-9C3A-737FBB94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A23-3D25-45E5-87CD-5B5E2C35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063-2455-42CF-BCBC-D39A28A4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43A-05DB-45EE-8417-4E30749B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42B-8B6A-41BE-8161-755D9D41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4F6-E7CD-4B4C-B889-A562A00A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4E5-6B08-46C8-BEBA-A001AAEC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B78-9010-45BB-B7B8-A9FD6572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A79-34BC-4B99-9FA8-84251ED9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167-A5F4-4559-B836-40EFF60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CD9-B64D-4A46-A169-1DDBD205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BFD-C914-4253-9288-4BD65F6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519E-1F81-474E-9E15-23B0F5BF5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建築物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212640"/>
            <a:ext cx="6977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在地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竣工年：○○○○（西暦）年（昭和△△年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改修年：平成○○年（ベストリフォーム部門のみ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　途：　　　　　（改修前）、　　　　　（改修後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応募者：（社名のみ、以下同じ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有者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計者： （ベストリフォーム部門は改修設計者）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施工者： （ベストリフォーム部門は改修施工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維持管理者：（ロングライフ部門の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835280" y="765000"/>
            <a:ext cx="66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 ＢＥＬＣＡ賞　ロングライフ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ベストリフォーム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08000" y="189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ＢＥＬＣＡ賞応募用静止画像提出様式（パワーポイン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１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35164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１　画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背景は白、文字は黒で作成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ライド１枚につき写真等の静止画像は１カットを基本としますが、両部門ともに、改修が行われた場合は、改修前後の比較が可能な場合に限り１枚のスライドに改修前・後の画像を各１カットまで入れていただいて結構です。その際は、必ず比較が容易な画像構成と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１カットでの説明や表現が困難な場合は、写真複数の組み合わせや、図解等の方法を用いて構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画像データはＪＰＥＧ形式と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静止画のファイルサイズが大きい場合には、静止画１枚あたりの容量を１ＭＢ以内に小さくしてください。なお、画像データは雑誌・新聞発表等にも使用しますので、極端に小さくする必要はあり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、ナレーション等の演出は一切付けず静止画像のみとしてください。（選考委員会での上映時間は、１件あたり３分程度です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5734080"/>
            <a:ext cx="8134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　：　部位、方角、時期、改修の前・後などのデータと簡単な説明を、１枚につき５０文字以内で説明してください。（２０ポイント文字２行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52:06Z</dcterms:created>
  <dc:creator>arahata</dc:creator>
  <dc:description/>
  <dc:language>en-US</dc:language>
  <cp:lastModifiedBy>BELCADESKTOP</cp:lastModifiedBy>
  <cp:lastPrinted>2017-05-23T05:04:33Z</cp:lastPrinted>
  <dcterms:modified xsi:type="dcterms:W3CDTF">2020-06-01T05:50:41Z</dcterms:modified>
  <cp:revision>38</cp:revision>
  <dc:subject/>
  <dc:title>物件名</dc:title>
</cp:coreProperties>
</file>