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8B6-E5E3-44DF-BB66-A4727D8F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C70-3F4B-4F5C-ABEF-CF73BCA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A1D-AD55-4819-95A9-8FC18ECB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FD0-40C5-40B9-B6AB-7467E66E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4CB-D1CB-4A78-A928-74A45983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133-3784-44D2-BAC5-D4642788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A6D-8995-493B-8E3F-8D3B94D0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D93-CF41-4F03-A669-710CC342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9F5-ADE7-4B0C-801E-08EC1774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9AD-1337-4784-B956-EE6169F8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535-3DAD-4509-9D20-56C1E4A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B3F-57EC-4250-8E42-C84F1AE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D005-10F3-4383-A2D9-A66A6898E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建築物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212640"/>
            <a:ext cx="6977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在地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竣工年：○○○○（西暦）年（昭和△△年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改修年：平成○○年（ベストリフォーム部門のみ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　途：　　　　　（改修前）、　　　　　（改修後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応募者：（社名のみ、以下同じ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有者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計者： （ベストリフォーム部門は改修設計者）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施工者： （ベストリフォーム部門は改修施工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維持管理者：（ロングライフ部門の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835280" y="765000"/>
            <a:ext cx="66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 ＢＥＬＣＡ賞　ロングライフ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ベストリフォーム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08000" y="189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ＢＥＬＣＡ賞応募用静止画像提出様式（パワーポイン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１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35164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１　画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背景は白、文字は黒で作成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ライド１枚につき写真等の静止画像は１カットを基本としますが、両部門ともに、改修が行われた場合は、改修前後の比較が可能な場合に限り１枚のスライドに改修前・後の画像を各１カットまで入れていただいて結構です。その際は、必ず比較が容易な画像構成と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１カットでの説明や表現が困難な場合は、写真複数の組み合わせや、図解等の方法を用いて構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画像データはＪＰＥＧ形式と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静止画のファイルサイズが大きい場合には、静止画１枚あたりの容量を１ＭＢ以内に小さくしてください。なお、画像データは雑誌・新聞発表等にも使用しますので、極端に小さくする必要はあり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、ナレーション等の演出は一切付けず静止画像のみとしてください。（選考委員会での上映時間は、１件あたりの３分程度です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5734080"/>
            <a:ext cx="8134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　：　部位、方角、時期、改修の前・後などのデータと簡単な説明を、１枚につき５０文字以内で説明してください。（２０ポイント文字２行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52:06Z</dcterms:created>
  <dc:creator>arahata</dc:creator>
  <dc:description/>
  <dc:language>en-US</dc:language>
  <cp:lastModifiedBy>近藤 匡駿</cp:lastModifiedBy>
  <cp:lastPrinted>2017-05-23T05:04:33Z</cp:lastPrinted>
  <dcterms:modified xsi:type="dcterms:W3CDTF">2018-05-21T02:27:28Z</dcterms:modified>
  <cp:revision>34</cp:revision>
  <dc:subject/>
  <dc:title>物件名</dc:title>
</cp:coreProperties>
</file>