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6632-6ACE-4B76-A668-80E1DB37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5437-C93E-4116-8E67-1E59B269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03B2-5074-4AD3-8239-330202FC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D74C-347F-426E-BC1F-A5EEDD07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E958-7F1D-472F-AB6E-2505D5F4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CFF0-D609-49A2-9BDD-4F2881C5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1967-AF9D-40F8-BA0B-D5DB8461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6D86-F75C-4CF6-9974-EFC2785A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B569-FAA3-48E2-B6E9-384CDCF7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4E12-FE5A-4081-A99A-DA5CCC87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DDDC-D157-4A26-92F8-16F5AF76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1E72-0077-455D-B861-5FC1E6E7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251E-06CE-464F-9B53-EBCA2771E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建築物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3212640"/>
            <a:ext cx="69771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所在地：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竣工年：○○○○（西暦）年（昭和△△年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改修年：平成○○年（ベストリフォーム部門のみ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用　途：　　　　　（改修前）、　　　　　（改修後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応募者：（社名のみ、以下同じ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所有者：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計者： （ベストリフォーム部門は改修設計者）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施工者： （ベストリフォーム部門は改修施工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維持管理者：（ロングライフ部門の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835280" y="765000"/>
            <a:ext cx="66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回 ＢＥＬＣＡ賞　ロングライフ部門応募建築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　　　　　　　　　ベストリフォーム部門応募建築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908000" y="1890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ＢＥＬＣＡ賞応募用静止画像提出様式（パワーポイン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１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549000"/>
            <a:ext cx="8351640" cy="504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写真１　画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背景は白、文字は黒で作成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スライド１枚につき写真等の静止画像は１カットを基本としますが、両部門ともに、改修が行われた場合は、改修前後の比較が可能な場合に限り１枚のスライドに改修前・後の画像を各１カットまで入れていただいて結構です。その際は、必ず比較が容易な画像構成と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写真１カットでの説明や表現が困難な場合は、写真複数の組み合わせや、図解等の方法を用いて構い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画像データはＪＰＥＧ形式として下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静止画のファイルサイズが大きい場合には、静止画１枚あたりの容量を１ＭＢ以内に小さくしてください。なお、画像データは雑誌・新聞発表等にも使用しますので、極端に小さくする必要はあり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ニメーション、ナレーション等の演出は一切付けず静止画像のみとしてください。（選考委員会での上映時間は、１件あたりの３分程度です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468360" y="5734080"/>
            <a:ext cx="8134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説明文　：　部位、方角、時期、改修の前・後などのデータと簡単な説明を、１枚につき５０文字以内で説明してください。（２０ポイント文字２行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09:52:06Z</dcterms:created>
  <dc:creator>arahata</dc:creator>
  <dc:description/>
  <dc:language>en-US</dc:language>
  <cp:lastModifiedBy>近藤匡駿</cp:lastModifiedBy>
  <cp:lastPrinted>2017-05-23T05:04:33Z</cp:lastPrinted>
  <dcterms:modified xsi:type="dcterms:W3CDTF">2017-05-23T05:04:35Z</dcterms:modified>
  <cp:revision>33</cp:revision>
  <dc:subject/>
  <dc:title>物件名</dc:title>
</cp:coreProperties>
</file>