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0752-C694-4B73-95E5-FB2B49A2D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992B-A268-4BE5-BD72-F749BE44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0CD2-DBD9-467F-93DE-DE99122D2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3729-6AE8-4611-97C3-CA055EAF8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DD62-4296-446B-94F4-4E3DC4B5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40D6-4994-4B8D-8999-CFAD8CA9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9584-DFA9-4EA2-B71C-BE6AC6A6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16FA-0F23-4BF9-9F9D-CCEC0E9E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F6EA-874E-4276-AC55-8D3B1604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EA0E-DA52-41D7-82A5-744BDB78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ED64-9FCC-4A72-900B-752E7A90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F83D-20E7-474D-883C-D0DDB59E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1EE7-F353-453B-BE3A-6117F812B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建築物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560" y="3212640"/>
            <a:ext cx="697716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所在地：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竣工年：○○○○（西暦）年（昭和△△年）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改修年：平成○○年（ベストリフォーム部門のみ）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用　途：　　　　　（改修前）、　　　　　（改修後）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応募者：（社名のみ、以下同じ）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所有者：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計者： （ベストリフォーム部門は改修設計者） 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施工者： （ベストリフォーム部門は改修施工者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維持管理者：（ロングライフ部門の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835280" y="765000"/>
            <a:ext cx="662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回 ＢＥＬＣＡ賞　ロングライフ部門応募建築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　　　　　　　　　　　ベストリフォーム部門応募建築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908000" y="189000"/>
            <a:ext cx="60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ＢＥＬＣＡ賞応募用静止画像提出様式（パワーポイント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82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建物名）　写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000" y="549360"/>
            <a:ext cx="835164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画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468360" y="5734080"/>
            <a:ext cx="8134200" cy="69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説明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82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建物名）　写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000" y="549360"/>
            <a:ext cx="835164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画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468360" y="5734080"/>
            <a:ext cx="8134200" cy="69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説明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82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建物名）　写真１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000" y="549000"/>
            <a:ext cx="8351640" cy="504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写真１　画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背景は白、文字は黒で作成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１枚のスライドに１カットの画像としてください。両部門ともに改修前後の比較が可能な場合に限り、１枚のスライドに改修前・後の画像を各１カットまで入れていただいて結構です。必ず比較が容易な画像構成として下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画像データはＪＰＥＧ形式として下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静止画のファイルサイズが大きい場合には、静止画１枚あたりの容量を１ＭＢ以内に小さくしてください。なお、画像データは雑誌・新聞発表等にも使用しますので、極端に小さくする必要はありませ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アニメーション、ナレーション等の演出は一切付けず静止画像のみとしてください。（選考委員会での１件あたりの上映時間は２分～３分程度です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写真での説明や表現が困難な場合に限り、図解等を用いても構いませ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468360" y="5734080"/>
            <a:ext cx="8134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説明文　：　部位、方角、時期、改修の前・後などのデータと簡単な説明を、１枚につき５０文字以内で説明してください。（２０ポイント文字２行以内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82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建物名）　写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000" y="549360"/>
            <a:ext cx="835164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画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68360" y="5734080"/>
            <a:ext cx="8134200" cy="69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説明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82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建物名）　写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000" y="549360"/>
            <a:ext cx="835164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画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68360" y="5734080"/>
            <a:ext cx="8134200" cy="69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説明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82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建物名）　写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549360"/>
            <a:ext cx="835164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画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468360" y="5734080"/>
            <a:ext cx="8134200" cy="69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説明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82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建物名）　写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549360"/>
            <a:ext cx="835164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画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468360" y="5734080"/>
            <a:ext cx="8134200" cy="69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説明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82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建物名）　写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000" y="549360"/>
            <a:ext cx="835164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画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68360" y="5734080"/>
            <a:ext cx="8134200" cy="69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説明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82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建物名）　写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549360"/>
            <a:ext cx="835164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画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468360" y="5734080"/>
            <a:ext cx="8134200" cy="69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説明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82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建物名）　写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000" y="549360"/>
            <a:ext cx="835164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画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468360" y="5734080"/>
            <a:ext cx="8134200" cy="69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説明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09:52:06Z</dcterms:created>
  <dc:creator>arahata</dc:creator>
  <dc:description/>
  <dc:language>en-US</dc:language>
  <cp:lastModifiedBy>近藤匡駿</cp:lastModifiedBy>
  <dcterms:modified xsi:type="dcterms:W3CDTF">2016-05-19T06:06:05Z</dcterms:modified>
  <cp:revision>28</cp:revision>
  <dc:subject/>
  <dc:title>物件名</dc:title>
</cp:coreProperties>
</file>