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60A-F84D-49A6-A4E9-8E75B0FA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A39-45A5-4B17-B67E-2C191A99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228-E8C9-4D2F-9F23-31512806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854A-4494-4F9F-9490-EBA1725F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B25A-544F-4088-B6A4-DBC73C2E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CD6B-65BA-455B-904B-FC8F156B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370-7469-4172-8A85-6C3795CF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EAD9-1D67-47DB-80C2-9A6B2128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A699-6BCA-47C1-B7F7-50A8BDFF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FB1C-4C35-47C4-8C66-B19CD6F8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0A17-678C-4B07-88C9-F07F62EF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FDD6-6C8E-4199-A47C-F5B4359B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E74E-9105-4F6B-99A7-4C8DD1BB4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建築物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3212640"/>
            <a:ext cx="69771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所在地：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竣工年：○○○○（西暦）年（昭和△△年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改修年：平成○○年（ベストリフォーム部門のみ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　途：　　　　　（改修前）、　　　　　（改修後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応募者：（社名のみ、以下同じ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所有者：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計者： （ベストリフォーム部門は改修設計者）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施工者： （ベストリフォーム部門は改修施工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維持管理者：（ロングライフ部門の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835280" y="765000"/>
            <a:ext cx="66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回 ＢＥＬＣＡ賞　ロングライフ部門応募建築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　　　　　　　　　　　ベストリフォーム部門応募建築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908000" y="1890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ＢＥＬＣＡ賞応募用静止画像提出様式（パワーポイン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１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549000"/>
            <a:ext cx="8351640" cy="504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写真１　画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背景は白、文字は黒で作成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１枚のスライドに１カットの画像としてください。両部門ともに改修前後の比較が可能な場合に限り、１枚のスライドに改修前・後の画像を各１カットまで入れていただいて結構です。必ず比較が容易な画像構成として下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画像データはＪＰＥＧ形式として下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静止画のファイルサイズが大きい場合には、静止画１枚あたりの容量を１ＭＢ以内に小さくしてください。なお、画像データは雑誌・新聞発表等にも使用しますので、極端に小さくする必要はあり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ニメーション、ナレーション等の演出は一切付けず静止画像のみとしてください。（選考委員会での１件あたりの上映時間は２分～３分程度で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写真での説明や表現が困難な場合に限り、図解等を用いても構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68360" y="5734080"/>
            <a:ext cx="8134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説明文　：　部位、方角、時期、改修の前・後などのデータと簡単な説明を、１枚につき５０文字以内で説明してください。（２０ポイント文字２行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建物名）　写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8351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68360" y="5734080"/>
            <a:ext cx="81342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説明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09:52:06Z</dcterms:created>
  <dc:creator>arahata</dc:creator>
  <dc:description/>
  <dc:language>en-US</dc:language>
  <cp:lastModifiedBy>近藤匡駿</cp:lastModifiedBy>
  <dcterms:modified xsi:type="dcterms:W3CDTF">2015-05-26T00:14:14Z</dcterms:modified>
  <cp:revision>27</cp:revision>
  <dc:subject/>
  <dc:title>物件名</dc:title>
</cp:coreProperties>
</file>